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4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65D-B03B-4174-81D9-586280B7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D53-14A7-4C75-A984-09BC76B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303-D6E6-4DF4-8A30-7AEB7216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265-3653-48EF-9BE4-7C600C10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780-78AF-4851-9630-89629845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A78-17E4-469B-A6C6-44FD71C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2E2-1A26-4513-B4F3-4549DEEF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EE6-0A07-45EE-B179-3081B2BB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C91-E899-4298-A31B-9F470196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894-B3A6-45CC-965B-FBD57DAD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2C8-BDC7-4BC3-A204-CA6EC6D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3B9-04F6-465E-95EA-2B28D34F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EBB-7463-4311-A1F0-296316FD9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28600" y="4572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523880" y="25146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Lesson 18 The Snowma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543" t="0" r="0" b="5588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040840" y="2362320"/>
            <a:ext cx="25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感情的朗读故事或复述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续写故事：妈妈打开冰箱之后发生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22320~1"/>
          <p:cNvPicPr/>
          <p:nvPr/>
        </p:nvPicPr>
        <p:blipFill>
          <a:blip r:embed="rId1"/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52280" y="2133720"/>
            <a:ext cx="55627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064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3520" y="144756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off his hat and put it on the snow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ther is cold and snow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man can’t talk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his hat off the snowman, because 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362320" y="457200"/>
            <a:ext cx="3733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Read and judge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640x640wdiccjs5"/>
          <p:cNvPicPr/>
          <p:nvPr/>
        </p:nvPicPr>
        <p:blipFill>
          <a:blip r:embed="rId3"/>
          <a:srcRect l="49022" t="23370" r="7637" b="22856"/>
          <a:stretch/>
        </p:blipFill>
        <p:spPr>
          <a:xfrm>
            <a:off x="1371600" y="16002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640x640wdiccjs5"/>
          <p:cNvPicPr/>
          <p:nvPr/>
        </p:nvPicPr>
        <p:blipFill>
          <a:blip r:embed="rId4"/>
          <a:srcRect l="49022" t="23370" r="7637" b="22856"/>
          <a:stretch/>
        </p:blipFill>
        <p:spPr>
          <a:xfrm>
            <a:off x="1371600" y="29718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640x640wdiccjs5"/>
          <p:cNvPicPr/>
          <p:nvPr/>
        </p:nvPicPr>
        <p:blipFill>
          <a:blip r:embed="rId5"/>
          <a:srcRect l="5753" t="23379" r="50912" b="22867"/>
          <a:stretch/>
        </p:blipFill>
        <p:spPr>
          <a:xfrm>
            <a:off x="1371600" y="3962520"/>
            <a:ext cx="504720" cy="45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640x640wdiccjs5"/>
          <p:cNvPicPr/>
          <p:nvPr/>
        </p:nvPicPr>
        <p:blipFill>
          <a:blip r:embed="rId6"/>
          <a:srcRect l="5753" t="23379" r="50912" b="22867"/>
          <a:stretch/>
        </p:blipFill>
        <p:spPr>
          <a:xfrm>
            <a:off x="1371600" y="4876920"/>
            <a:ext cx="504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578808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066680" y="2359080"/>
            <a:ext cx="5867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8610480" cy="347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990720"/>
            <a:ext cx="87631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27672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895840" cy="230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20040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0" y="152280"/>
            <a:ext cx="3276720" cy="22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152280" y="3657600"/>
            <a:ext cx="2430720" cy="236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6172200" y="1522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0421"/>
          <p:cNvPicPr/>
          <p:nvPr/>
        </p:nvPicPr>
        <p:blipFill>
          <a:blip r:embed="rId7"/>
          <a:srcRect l="9334" t="0" r="69347" b="54295"/>
          <a:stretch/>
        </p:blipFill>
        <p:spPr>
          <a:xfrm>
            <a:off x="4191120" y="594360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0421"/>
          <p:cNvPicPr/>
          <p:nvPr/>
        </p:nvPicPr>
        <p:blipFill>
          <a:blip r:embed="rId8"/>
          <a:srcRect l="34229" t="0" r="33775" b="54295"/>
          <a:stretch/>
        </p:blipFill>
        <p:spPr>
          <a:xfrm>
            <a:off x="7010280" y="59436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0421"/>
          <p:cNvPicPr/>
          <p:nvPr/>
        </p:nvPicPr>
        <p:blipFill>
          <a:blip r:embed="rId9"/>
          <a:srcRect l="62683" t="0" r="5338" b="54295"/>
          <a:stretch/>
        </p:blipFill>
        <p:spPr>
          <a:xfrm>
            <a:off x="4114800" y="27432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0421"/>
          <p:cNvPicPr/>
          <p:nvPr/>
        </p:nvPicPr>
        <p:blipFill>
          <a:blip r:embed="rId10"/>
          <a:srcRect l="2216" t="53341" r="65788" b="4754"/>
          <a:stretch/>
        </p:blipFill>
        <p:spPr>
          <a:xfrm>
            <a:off x="762120" y="25146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0421"/>
          <p:cNvPicPr/>
          <p:nvPr/>
        </p:nvPicPr>
        <p:blipFill>
          <a:blip r:embed="rId11"/>
          <a:srcRect l="37787" t="53341" r="30233" b="4754"/>
          <a:stretch/>
        </p:blipFill>
        <p:spPr>
          <a:xfrm>
            <a:off x="1143000" y="60199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0421"/>
          <p:cNvPicPr/>
          <p:nvPr/>
        </p:nvPicPr>
        <p:blipFill>
          <a:blip r:embed="rId12"/>
          <a:srcRect l="69783" t="53341" r="5338" b="4754"/>
          <a:stretch/>
        </p:blipFill>
        <p:spPr>
          <a:xfrm>
            <a:off x="7620120" y="2438280"/>
            <a:ext cx="533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2:19:46Z</dcterms:created>
  <dc:creator/>
  <dc:description/>
  <cp:keywords/>
  <dc:language>en-US</dc:language>
  <cp:lastModifiedBy>admin</cp:lastModifiedBy>
  <dcterms:modified xsi:type="dcterms:W3CDTF">2015-12-21T08:46:3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